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2320-0424-498F-B604-7716A424A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C55E-A95E-4C29-995E-2D6A01997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E98A-E2C8-40E0-8359-75BD532D5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F183-D970-4960-9067-3B96BAF66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BB5E-157C-4C74-9340-A8672009B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6EF3-B49E-4FB9-A2FD-AE5ACE20E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BDB3-8B66-45C5-AF3F-84B4B9D0F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6EF2-106A-4FFB-AF48-1BACFDEFB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CB8E-32B9-4FCE-A2F2-11E4D86F1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BC2F-0DBA-4051-8909-26222D74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9211-0741-4180-8FD6-B5A2600A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4197-9BB3-42BB-AB0D-22063F962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80E66-37C7-48BF-9C14-C6E04A9F35A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857160" y="272880"/>
            <a:ext cx="7429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EXERCISES FOR MODULE ELEV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1:Exercises 1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200160" y="1300320"/>
            <a:ext cx="8943840" cy="44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ction 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ροσηλθον αὐτῳ οἱ μαθηται λεγοντες∙ Ἐρημος ἐστιν ὁ τοπος και ἡ ὡρα ἠδη παρηλθεν∙ ἀπολυσον τους ὀχλου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ι φωνη ἐγενετο ἐκ των οὐρανων∙ Συ εἶ ὁ υἱος μου ὁ ἀγαπητο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ι ὁτε εἰσηλθεν εἰς οἰκον ἀπο του ὀχλου, εὑρον αὐτον οἱ μαθηται αὐτου και εἰπον αὐτῳ περι της παραβολη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κηρυξα γαρ ὑμιν ὃ και παρελαβον, ὁτι Χριστος ἀπεθανεν ὑπερ των ἁμαρτιων ἡμων κατα το εὐαγγελι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γω γαρ δια νομου ἀπεθανον νομῳ.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λεγει οὐν τῳ ἀποστολῳ∙ Μη γινου παντοτε τυφλος ἐν τῃ καρδιᾳ σου ἀλλα πιστο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1:Exercises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200160" y="1300320"/>
            <a:ext cx="894384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ν τῳ κοσμῳ ἠν, κσι ὁ κοσμος δι’ αὐτου ἐγενετο, και ὁ κοσμος αὐτον οὐκ ἐγνω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υριε δικαιε, και ὁ κοσμος σε οὐκ ἐγνω, ἐγω δε σε ἐγνων, και οὑτοι ἐγνωσαν ὁτι συ με ἀπεστειλα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he went up into the boat with them and they fled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ter this he went down to Galilee, and Mary and his brothers and his disciples, and they remained there for not many days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hold, the son of man will send his angels.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at word which I spoke will judge him on the day of the Lord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2"/>
          <p:cNvSpPr/>
          <p:nvPr/>
        </p:nvSpPr>
        <p:spPr>
          <a:xfrm>
            <a:off x="200160" y="1216080"/>
            <a:ext cx="8943840" cy="55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ction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αὑτη δε ἐστιν ἡ αἰωνιος ζωη, γινωσκειν σε τον μονον ἀληθινον θεον και ὁν ἀπεστειλας Ἰησουν Χριστ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ι ἀλλον ἀπεστειλεν∙ κἀκεινον ἀπεκτειναν, και πολλους ἀλλους, οὑς μεν διωκοντες, οὑς δε ἀποκτεινοντε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ι λεγει αὐτοις∙ Οὐκ γινωσκετε την παραβολην ταυτην, και πως ἀλλας τας παραβολας γωνσεσθε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ι παλιν ἠνεγκαν το τεκνον μετα του δαιμονιου προς αὐτον. και εὐθυς πεσων ἐπι της γης ἐκραζε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ἰδου ὁ σπειρων σπειρει ἐπι την γην∙ και ἐγενετο ὃ μεν ἐπεσεν παρα την ὁδον, και ἀλλο ἐπεσεν εἰς την γην την καλην, και εὐθυς ἀνεβη καλως.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τουτο οὐν το βιβλιον πολλοι ἀνεγνωσαν ὁτι ἐπεγνωσαν την ἀληθεια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1:Exercises 3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1:Exercises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200160" y="1300320"/>
            <a:ext cx="8943840" cy="37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 δε Ἰησους εἰπεν αὐτῳ ὁτι Σοι λεγω, ἐγειρε ἀρον αὐτο και ὑπαγε εἰς τον οἰκον σ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ι οἱ ὑπηπεται καταλιποντες τα προβατα ἐφυγον ἀπαγγελλοντες ἁ εἰδον και ἀλλοι ἀνεβησαν ἰδει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the disciples of John came and took away the dead man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ving received (him) they killed him and cast him outside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coming into the house, he said, ‘Rejoice! We will eat with one another now’.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happened that a sheep fled. Therefore the son left the others and found it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1:Exercises 5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428760" y="1428840"/>
            <a:ext cx="8429400" cy="47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ction 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velation 1.1-19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Ἀποκάλυψις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evelation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Ἰησοῦ Χριστοῦ ἣν ἔδωκεν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he gave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αὐτῷ ὁ θεὸς δεῖξαι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o show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τοῖς δούλοις αὐτοῦ ἃ δεῖ γενέσθαι ἐν τάχει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, καὶ ἐσήμανεν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he showed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ἀποστείλας διὰ τοῦ ἀγγέλου αὐτοῦ τῷ δούλῳ αὐτοῦ Ἰωνάννῃ, </a:t>
            </a:r>
            <a:r>
              <a:rPr b="0" lang="el-GR" sz="2400" spc="-1" strike="noStrike" baseline="30000">
                <a:solidFill>
                  <a:srgbClr val="000000"/>
                </a:solidFill>
                <a:latin typeface="Gentium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ὃς ἐμαρτύρησεν τὸν λόγον τοῦ θεοῦ καὶ τὴν μαρτρίαν Ἰησοῦ Χριστοῦ ὅσα εἶδεν. </a:t>
            </a:r>
            <a:r>
              <a:rPr b="0" lang="el-GR" sz="2400" spc="-1" strike="noStrike" baseline="30000">
                <a:solidFill>
                  <a:srgbClr val="000000"/>
                </a:solidFill>
                <a:latin typeface="Gentium"/>
              </a:rPr>
              <a:t>3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μακάριος ὁ ἀναγινώσκων καὶ οἱ ἀκούοντες τοὺς λόγους τῆς προφτείας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prophecy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ὶ τηροῦντες τὰ ἐν αὐτῇ γεγραμμένα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having been written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, ὁ γὰρ καιρὸς ἐγγύς. ... </a:t>
            </a:r>
            <a:r>
              <a:rPr b="0" lang="el-GR" sz="2400" spc="-1" strike="noStrike" baseline="30000">
                <a:solidFill>
                  <a:srgbClr val="000000"/>
                </a:solidFill>
                <a:latin typeface="Gentium"/>
              </a:rPr>
              <a:t>9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Ἐγὼ Ἰωάννης, ὁ ἀδελφὸς ὑμῶν ... </a:t>
            </a:r>
            <a:r>
              <a:rPr b="0" lang="el-GR" sz="2400" spc="-1" strike="noStrike" baseline="30000">
                <a:solidFill>
                  <a:srgbClr val="000000"/>
                </a:solidFill>
                <a:latin typeface="Gentium"/>
              </a:rPr>
              <a:t>10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ἐγενόμην ἐν πνεύματι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pirit in the dat. sing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.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ν τῇ κυριακῇ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lord’s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ἡμέρᾳ καὶ ἤκουσα ὀπίσω μου φωνὴν μεγάλην ὡς σάλιπιγγος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rumpet in the gen. sing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1:Exercises 6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642960" y="1571760"/>
            <a:ext cx="8001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baseline="30000">
                <a:solidFill>
                  <a:srgbClr val="000000"/>
                </a:solidFill>
                <a:latin typeface="Gentium"/>
              </a:rPr>
              <a:t>11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λεγούσης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aying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, Ὃ βλέπεις γράψον εἰς βιβλίον καὶ πέμψον ταῖς ἑπτὰ ἐκκλησίας, ... </a:t>
            </a:r>
            <a:r>
              <a:rPr b="0" lang="el-GR" sz="2400" spc="-1" strike="noStrike" baseline="30000">
                <a:solidFill>
                  <a:srgbClr val="000000"/>
                </a:solidFill>
                <a:latin typeface="Gentium"/>
              </a:rPr>
              <a:t>12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Καὶ ἐπέστρεψα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πιστρεφω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 turn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βλέπειν τὴν φωνὴν ἥτις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=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ἥ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λάλει μετ’ ἐμοῦ, καὶ ἐπιστρέψας εἶδον ἑπτὰ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seven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λυχνίας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lampstand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χρυσᾶς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gold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... </a:t>
            </a:r>
            <a:r>
              <a:rPr b="0" lang="el-GR" sz="2400" spc="-1" strike="noStrike" baseline="30000">
                <a:solidFill>
                  <a:srgbClr val="000000"/>
                </a:solidFill>
                <a:latin typeface="Gentium"/>
              </a:rPr>
              <a:t>17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Καὶ ὅτε εἶδον αὐτόν, ἔπεσα πρὸς τοὺς πόδας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feet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αὐτοῦ ὡς νεκρός, καὶ ἔθηκεν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he placed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τὴν δεξιὰν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ight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αὐτοῦ ἐπ’ ἐμὲ λέγων, ... </a:t>
            </a:r>
            <a:r>
              <a:rPr b="0" lang="el-GR" sz="2400" spc="-1" strike="noStrike" baseline="30000">
                <a:solidFill>
                  <a:srgbClr val="000000"/>
                </a:solidFill>
                <a:latin typeface="Gentium"/>
              </a:rPr>
              <a:t>19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γράψον οὖν ἃ εἶδες καὶ ἃ εἰσὶν καὶ ἃ μέλλει γενέσθαι μετὰ ταῦτ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5T09:03:54Z</dcterms:created>
  <dc:creator>Sarah</dc:creator>
  <dc:description/>
  <dc:language>en-US</dc:language>
  <cp:lastModifiedBy>Sarah</cp:lastModifiedBy>
  <dcterms:modified xsi:type="dcterms:W3CDTF">2009-07-09T18:36:10Z</dcterms:modified>
  <cp:revision>57</cp:revision>
  <dc:subject/>
  <dc:title>Slide 1</dc:title>
</cp:coreProperties>
</file>